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A2B-86C0-45F3-8777-7380F88F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EF3E-D603-4AEB-A191-ED4B1F1C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AEF0F4-FE35-4900-AF9B-8251CCA4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AAFC3-342C-44A3-BB2A-00515AC0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D2F18-0F9C-4D42-A25D-A0B97984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CB056-4C0C-426A-91E9-652035D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7B4BA-8CA4-4F49-8520-84649FE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F680E-6178-4667-BD49-10201340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7B331-A0C1-4E1B-BF80-67744704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2175F-B7B3-4586-A7D7-08C29ADB8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25141-66A9-4B43-8B6B-3168F7AE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F39E4-8E34-4CD2-8D08-FE6DFFF8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F6B-A8F8-4624-B359-3DD5C427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CC4299-9D7C-4B80-BA9D-B3E64A03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6BA64-3850-46D8-9E1F-825A6054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D79FF-464A-4C27-9135-6749D0DA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18EEF-F1DE-4CF4-85A8-B6AA168B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A4428-23E1-4705-9B23-6C84F8C9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33DC4-09D8-412A-B823-3721C033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0505C-025D-4426-B8A0-3B9C05F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6EE87-3B2C-49FD-ADDA-19E8C391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B1D0A-ABDD-4C0D-B1CC-11E5322A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C2E02-325E-4391-B8A5-46EC2586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B54-72EA-44A3-BD42-AE29FB67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033D6-7017-4873-AB67-3A454942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FED6-BF1B-44B0-95D8-5BB40CC3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EE19-A44D-4584-BB73-B37A30C4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1DF3-E77B-46F0-A9C9-5CBEE86E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EF1D-B269-484C-95DF-3BBAC89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87D2-F60F-475C-93E1-DAA0EC3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B95D-C233-4604-B9F5-6647365F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CCB2F-D630-4A31-8A05-D538910F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5840-152B-4809-8B13-C3FCF6C4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F19F-2540-4360-BAFC-D1107F84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33AA5-C6E5-4423-821D-688542F2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A760-91DB-4AFC-A369-1DD6CD30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AAFD-252D-4008-8D98-1115EB1F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4E9B-3534-447A-A050-23E881F8A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D2C4F-3247-4848-A2D9-995A5F6B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EBDF1-9D62-4D5A-8BF1-C31F3F29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B940D-3A38-4290-BC36-029AEA5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17EFE-B2BC-48C0-BC38-4F2372CA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3BAB3-B369-42AA-AA44-D04B1463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AFA-BB09-455E-8B9F-9E38F89A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391DB-B0EA-40D1-8727-682A878D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5975-8841-46BB-AD4A-4458F3A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6C6F-48D9-4BB3-A6E3-17ED2BD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B206F-EB43-4B41-BD17-938E325D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7DA7-B38C-466E-A9DF-7E169850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A770-BFEB-4075-9A6E-896491C9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D5004-7115-46B3-A54F-EC4A21DC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0850D-66CF-4B64-BE56-7D9EF030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DC6C2-996E-4C49-9063-7488C74B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3870F-31E0-4781-97D2-682974B1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1AC-67D6-4BC0-B2CD-C77DB961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826B3-A767-4697-B7C0-05079F51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D996B-19A5-4ABA-B01A-522C9C4A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89D1-C73F-465B-961C-5E568CC7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F74A-B1C1-44BD-AB90-4641A275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104F-D90A-4132-A094-836392E8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4CC73-874C-49F0-B6F7-55F887DE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92E49-A471-481C-B8D9-77FDF654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BA07A-F622-4AD2-B05B-7D14BB33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D27ED-900F-4549-93A2-77D4E482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D2C7C-592E-4054-93C5-11BC1B4F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9C35-D1B8-461E-A6CA-CC6816FC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B3696-0E37-4FD2-BE3C-1E230183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FA78E-B682-40A3-B9F3-E2FC9D57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812F6-1039-4FC8-A8BB-FD5F42FB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4261D-1304-48A7-91FD-01A06BCD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AA4DC-7228-4929-B0B1-4C203207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AF47-D6C7-41AB-B774-ABAF589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BB047-D1B0-4C11-A1A3-A4805CBC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4120F-DFAC-4BD7-9598-B6E518DF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F082C-B76F-45F1-BE33-07AF3610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9D36F-21D3-4B2A-9474-3D4907F1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E9B6-29CA-4490-8444-9DFC280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0F92F-5AFD-4C49-A972-D7A41BD6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4BE2-5BCA-4794-8DDA-54831895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883B8-6E8F-476A-B3A6-E2E06AC9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73854-A642-443A-B97C-AA3474C6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EFF9C-58EB-4CA4-833B-AF682B7A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CCE08-24E9-49DA-AA2D-57C727EF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403D4-8757-45D2-8B66-BEEEE300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AAB7C-4DE7-4C15-96B2-9DA70824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7AED-D278-4B6A-B3BD-69071AD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322DB-D141-449E-91FB-16F9A95D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E36-CE47-4981-9176-ABE16AE2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2C338-1F35-4A72-8285-0F87E2AD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D7735-2007-4F53-9703-B689CE19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FBAE4-89E0-48FE-AD1A-949E4B22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3DAA3-5CAB-4597-A55A-AE9149DBB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7F877-8690-40E3-943F-40BA7946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FBB0D-579F-4F43-A386-F02954E1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E457E-23A2-478F-A5C7-251CD925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9ADB9-583F-43C9-8677-33F6853A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EF46A-1521-49C1-ADD8-F95ABB98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BE822-61F7-4DD0-9BEB-6C8A8865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09DF-839B-4FF6-A099-BB5C18F8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5EA50-38FD-4845-8394-D636D122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D5866-479A-49BA-A845-AD8ABA2D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3848E-0223-4AE3-904B-8D98C961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F11AE-93A2-4E63-8CF5-9C3BF768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6D37E-A14F-4272-A730-71D22AF2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C2062-D87B-47A1-9ADA-9B75A5E0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49795-454A-4917-A46C-F366D04A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7FDC0-3803-4C38-A98D-DCEA8F3B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29F23-6113-4A44-98AB-9C3156E2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B161A-8794-41E4-83A4-D8182FD1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230-82FF-4995-8AB1-CDC4B55D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D86C9-AF1D-4460-B44F-26FCBA85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12954-63FB-4345-8E8A-9626FF92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75932-A36C-4AF0-8AAA-E6019951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26EAD-EEA2-428C-B62A-F04A955D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D911D-0938-43E9-B040-9E601233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3F539-4498-4114-9E2E-97A71302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DCC20-10E5-49A0-B5D0-6809AC5A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E4808-9938-40FA-9C64-DDB3AFDB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A13FE-961E-42FE-8C04-5716EEB5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2A7A5-00B6-4224-9B4D-60BBFF71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0E98-9C7C-49B7-9D7E-8413DB321BF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Group 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449" name="Freeform 9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450" name="Freeform 9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Rectangle 10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1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E791-3631-4BAB-9FD4-334EBE84CD7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1928880"/>
            <a:ext cx="9144000" cy="49291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6" descr="2.png"/>
          <p:cNvPicPr/>
          <p:nvPr/>
        </p:nvPicPr>
        <p:blipFill>
          <a:blip r:embed="rId2"/>
          <a:stretch/>
        </p:blipFill>
        <p:spPr>
          <a:xfrm>
            <a:off x="5072040" y="3571920"/>
            <a:ext cx="3718080" cy="32860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0"/>
          <p:cNvGrpSpPr/>
          <p:nvPr/>
        </p:nvGrpSpPr>
        <p:grpSpPr>
          <a:xfrm>
            <a:off x="7287480" y="716400"/>
            <a:ext cx="867600" cy="1688400"/>
            <a:chOff x="7287480" y="716400"/>
            <a:chExt cx="867600" cy="1688400"/>
          </a:xfrm>
        </p:grpSpPr>
        <p:sp>
          <p:nvSpPr>
            <p:cNvPr id="44" name="Rectangle 19"/>
            <p:cNvSpPr/>
            <p:nvPr/>
          </p:nvSpPr>
          <p:spPr>
            <a:xfrm rot="360000">
              <a:off x="7868880" y="87876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8"/>
            <p:cNvGrpSpPr/>
            <p:nvPr/>
          </p:nvGrpSpPr>
          <p:grpSpPr>
            <a:xfrm>
              <a:off x="7287480" y="716400"/>
              <a:ext cx="669960" cy="1688400"/>
              <a:chOff x="7287480" y="716400"/>
              <a:chExt cx="669960" cy="1688400"/>
            </a:xfrm>
          </p:grpSpPr>
          <p:sp>
            <p:nvSpPr>
              <p:cNvPr id="46" name="Rectangle 16"/>
              <p:cNvSpPr/>
              <p:nvPr/>
            </p:nvSpPr>
            <p:spPr>
              <a:xfrm rot="360000">
                <a:off x="7425720" y="740880"/>
                <a:ext cx="50292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Rectangle 17"/>
              <p:cNvSpPr/>
              <p:nvPr/>
            </p:nvSpPr>
            <p:spPr>
              <a:xfrm rot="360000">
                <a:off x="7341840" y="1310760"/>
                <a:ext cx="50292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Group 26"/>
          <p:cNvGrpSpPr/>
          <p:nvPr/>
        </p:nvGrpSpPr>
        <p:grpSpPr>
          <a:xfrm>
            <a:off x="7856640" y="1067400"/>
            <a:ext cx="966600" cy="1712880"/>
            <a:chOff x="7856640" y="1067400"/>
            <a:chExt cx="966600" cy="1712880"/>
          </a:xfrm>
        </p:grpSpPr>
        <p:sp>
          <p:nvSpPr>
            <p:cNvPr id="49" name="Rectangle 22"/>
            <p:cNvSpPr/>
            <p:nvPr/>
          </p:nvSpPr>
          <p:spPr>
            <a:xfrm rot="600000">
              <a:off x="8488440" y="124632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24"/>
            <p:cNvSpPr/>
            <p:nvPr/>
          </p:nvSpPr>
          <p:spPr>
            <a:xfrm rot="600000">
              <a:off x="8082000" y="110664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25"/>
            <p:cNvSpPr/>
            <p:nvPr/>
          </p:nvSpPr>
          <p:spPr>
            <a:xfrm rot="600000">
              <a:off x="7945560" y="167436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41"/>
          <p:cNvGrpSpPr/>
          <p:nvPr/>
        </p:nvGrpSpPr>
        <p:grpSpPr>
          <a:xfrm>
            <a:off x="0" y="1809720"/>
            <a:ext cx="9144000" cy="120600"/>
            <a:chOff x="0" y="1809720"/>
            <a:chExt cx="9144000" cy="120600"/>
          </a:xfrm>
        </p:grpSpPr>
        <p:sp>
          <p:nvSpPr>
            <p:cNvPr id="53" name="Straight Connector 31"/>
            <p:cNvSpPr/>
            <p:nvPr/>
          </p:nvSpPr>
          <p:spPr>
            <a:xfrm>
              <a:off x="0" y="180972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33"/>
            <p:cNvSpPr/>
            <p:nvPr/>
          </p:nvSpPr>
          <p:spPr>
            <a:xfrm>
              <a:off x="0" y="1865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34"/>
            <p:cNvSpPr/>
            <p:nvPr/>
          </p:nvSpPr>
          <p:spPr>
            <a:xfrm>
              <a:off x="0" y="19288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6" name="Group 277" descr=""/>
          <p:cNvPicPr/>
          <p:nvPr/>
        </p:nvPicPr>
        <p:blipFill>
          <a:blip r:embed="rId3"/>
          <a:stretch/>
        </p:blipFill>
        <p:spPr>
          <a:xfrm>
            <a:off x="438120" y="2298600"/>
            <a:ext cx="1414440" cy="1498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3CDE-5662-48F5-B29D-15497A355B50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traight Connector 6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Group 277" descr=""/>
          <p:cNvPicPr/>
          <p:nvPr/>
        </p:nvPicPr>
        <p:blipFill>
          <a:blip r:embed="rId2"/>
          <a:stretch/>
        </p:blipFill>
        <p:spPr>
          <a:xfrm>
            <a:off x="317520" y="212760"/>
            <a:ext cx="968400" cy="1000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8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103" name="Freeform 14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104" name="Freeform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Rectangle 16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C7A5-5BE8-40D0-858B-9A65E702069D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8"/>
          <p:cNvSpPr/>
          <p:nvPr/>
        </p:nvSpPr>
        <p:spPr>
          <a:xfrm>
            <a:off x="0" y="4718160"/>
            <a:ext cx="9144000" cy="172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7031880" y="3440520"/>
            <a:ext cx="867960" cy="1688400"/>
            <a:chOff x="7031880" y="3440520"/>
            <a:chExt cx="867960" cy="1688400"/>
          </a:xfrm>
        </p:grpSpPr>
        <p:sp>
          <p:nvSpPr>
            <p:cNvPr id="151" name="Rectangle 7"/>
            <p:cNvSpPr/>
            <p:nvPr/>
          </p:nvSpPr>
          <p:spPr>
            <a:xfrm rot="360000">
              <a:off x="7613640" y="3602880"/>
              <a:ext cx="210960" cy="144504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18"/>
            <p:cNvGrpSpPr/>
            <p:nvPr/>
          </p:nvGrpSpPr>
          <p:grpSpPr>
            <a:xfrm>
              <a:off x="7031880" y="3440520"/>
              <a:ext cx="670320" cy="1688400"/>
              <a:chOff x="7031880" y="3440520"/>
              <a:chExt cx="670320" cy="1688400"/>
            </a:xfrm>
          </p:grpSpPr>
          <p:sp>
            <p:nvSpPr>
              <p:cNvPr id="153" name="Rectangle 9"/>
              <p:cNvSpPr/>
              <p:nvPr/>
            </p:nvSpPr>
            <p:spPr>
              <a:xfrm rot="360000">
                <a:off x="7170120" y="3465000"/>
                <a:ext cx="503280" cy="576360"/>
              </a:xfrm>
              <a:prstGeom prst="rect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10"/>
              <p:cNvSpPr/>
              <p:nvPr/>
            </p:nvSpPr>
            <p:spPr>
              <a:xfrm rot="360000">
                <a:off x="7086240" y="4034880"/>
                <a:ext cx="503280" cy="1070280"/>
              </a:xfrm>
              <a:prstGeom prst="rect">
                <a:avLst/>
              </a:prstGeom>
              <a:solidFill>
                <a:srgbClr val="dce6f2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Group 11"/>
          <p:cNvGrpSpPr/>
          <p:nvPr/>
        </p:nvGrpSpPr>
        <p:grpSpPr>
          <a:xfrm>
            <a:off x="7620120" y="3791520"/>
            <a:ext cx="966600" cy="1712880"/>
            <a:chOff x="7620120" y="3791520"/>
            <a:chExt cx="966600" cy="1712880"/>
          </a:xfrm>
        </p:grpSpPr>
        <p:sp>
          <p:nvSpPr>
            <p:cNvPr id="156" name="Rectangle 12"/>
            <p:cNvSpPr/>
            <p:nvPr/>
          </p:nvSpPr>
          <p:spPr>
            <a:xfrm rot="600000">
              <a:off x="8251920" y="3970440"/>
              <a:ext cx="210960" cy="1444320"/>
            </a:xfrm>
            <a:prstGeom prst="rect">
              <a:avLst/>
            </a:prstGeom>
            <a:gradFill rotWithShape="0">
              <a:gsLst>
                <a:gs pos="0">
                  <a:srgbClr val="7f7f7f">
                    <a:alpha val="0"/>
                  </a:srgbClr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3"/>
            <p:cNvSpPr/>
            <p:nvPr/>
          </p:nvSpPr>
          <p:spPr>
            <a:xfrm rot="600000">
              <a:off x="7845480" y="3830760"/>
              <a:ext cx="503280" cy="576000"/>
            </a:xfrm>
            <a:prstGeom prst="rect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4"/>
            <p:cNvSpPr/>
            <p:nvPr/>
          </p:nvSpPr>
          <p:spPr>
            <a:xfrm rot="600000">
              <a:off x="7709040" y="4398480"/>
              <a:ext cx="503280" cy="1069920"/>
            </a:xfrm>
            <a:prstGeom prst="rect">
              <a:avLst/>
            </a:prstGeom>
            <a:solidFill>
              <a:srgbClr val="f2dc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9"/>
          <p:cNvGrpSpPr/>
          <p:nvPr/>
        </p:nvGrpSpPr>
        <p:grpSpPr>
          <a:xfrm>
            <a:off x="0" y="4575240"/>
            <a:ext cx="9144000" cy="120600"/>
            <a:chOff x="0" y="4575240"/>
            <a:chExt cx="9144000" cy="120600"/>
          </a:xfrm>
        </p:grpSpPr>
        <p:sp>
          <p:nvSpPr>
            <p:cNvPr id="160" name="Straight Connector 15"/>
            <p:cNvSpPr/>
            <p:nvPr/>
          </p:nvSpPr>
          <p:spPr>
            <a:xfrm>
              <a:off x="0" y="45752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16"/>
            <p:cNvSpPr/>
            <p:nvPr/>
          </p:nvSpPr>
          <p:spPr>
            <a:xfrm>
              <a:off x="0" y="46306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Straight Connector 17"/>
            <p:cNvSpPr/>
            <p:nvPr/>
          </p:nvSpPr>
          <p:spPr>
            <a:xfrm>
              <a:off x="0" y="46944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Group 277" descr=""/>
          <p:cNvPicPr/>
          <p:nvPr/>
        </p:nvPicPr>
        <p:blipFill>
          <a:blip r:embed="rId2"/>
          <a:stretch/>
        </p:blipFill>
        <p:spPr>
          <a:xfrm>
            <a:off x="360360" y="5005440"/>
            <a:ext cx="992160" cy="10666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1D39-0290-4719-A003-2AA6B8DE2F7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208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209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c0504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Straight Connector 13"/>
          <p:cNvSpPr/>
          <p:nvPr/>
        </p:nvSpPr>
        <p:spPr>
          <a:xfrm>
            <a:off x="0" y="1316160"/>
            <a:ext cx="8577360" cy="1440"/>
          </a:xfrm>
          <a:prstGeom prst="line">
            <a:avLst/>
          </a:prstGeom>
          <a:ln w="93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3DD6-7CF8-430A-94D8-58E7F5C770B1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9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0"/>
          <p:cNvGrpSpPr/>
          <p:nvPr/>
        </p:nvGrpSpPr>
        <p:grpSpPr>
          <a:xfrm>
            <a:off x="0" y="1143000"/>
            <a:ext cx="9144000" cy="120600"/>
            <a:chOff x="0" y="1143000"/>
            <a:chExt cx="9144000" cy="120600"/>
          </a:xfrm>
        </p:grpSpPr>
        <p:sp>
          <p:nvSpPr>
            <p:cNvPr id="257" name="Straight Connector 11"/>
            <p:cNvSpPr/>
            <p:nvPr/>
          </p:nvSpPr>
          <p:spPr>
            <a:xfrm>
              <a:off x="0" y="114300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Straight Connector 12"/>
            <p:cNvSpPr/>
            <p:nvPr/>
          </p:nvSpPr>
          <p:spPr>
            <a:xfrm>
              <a:off x="0" y="119844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Straight Connector 13"/>
            <p:cNvSpPr/>
            <p:nvPr/>
          </p:nvSpPr>
          <p:spPr>
            <a:xfrm>
              <a:off x="0" y="12621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Group 277" descr=""/>
          <p:cNvPicPr/>
          <p:nvPr/>
        </p:nvPicPr>
        <p:blipFill>
          <a:blip r:embed="rId2"/>
          <a:stretch/>
        </p:blipFill>
        <p:spPr>
          <a:xfrm>
            <a:off x="285840" y="146160"/>
            <a:ext cx="860400" cy="933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2229-048C-471A-9C7F-E6626E04FEA6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9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05" name="Freeform 10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06" name="Freeform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Rectangle 11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2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0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1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08FD-B30F-483C-9F33-C43459F990C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8"/>
          <p:cNvSpPr/>
          <p:nvPr/>
        </p:nvSpPr>
        <p:spPr>
          <a:xfrm>
            <a:off x="8604360" y="0"/>
            <a:ext cx="539640" cy="685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594640" y="0"/>
            <a:ext cx="393840" cy="68580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"/>
          <p:cNvGrpSpPr/>
          <p:nvPr/>
        </p:nvGrpSpPr>
        <p:grpSpPr>
          <a:xfrm>
            <a:off x="7996320" y="212040"/>
            <a:ext cx="1119600" cy="625320"/>
            <a:chOff x="7996320" y="212040"/>
            <a:chExt cx="1119600" cy="625320"/>
          </a:xfrm>
        </p:grpSpPr>
        <p:grpSp>
          <p:nvGrpSpPr>
            <p:cNvPr id="354" name="Freeform 11"/>
            <p:cNvGrpSpPr/>
            <p:nvPr/>
          </p:nvGrpSpPr>
          <p:grpSpPr>
            <a:xfrm>
              <a:off x="8085960" y="500400"/>
              <a:ext cx="997200" cy="336960"/>
              <a:chOff x="8085960" y="500400"/>
              <a:chExt cx="997200" cy="336960"/>
            </a:xfrm>
          </p:grpSpPr>
          <p:pic>
            <p:nvPicPr>
              <p:cNvPr id="355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8089920" y="520920"/>
                <a:ext cx="99324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 rot="4680000">
                <a:off x="8514360" y="176040"/>
                <a:ext cx="135000" cy="98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Rectangle 12"/>
            <p:cNvSpPr/>
            <p:nvPr/>
          </p:nvSpPr>
          <p:spPr>
            <a:xfrm rot="4680000">
              <a:off x="8748360" y="212400"/>
              <a:ext cx="304920" cy="374760"/>
            </a:xfrm>
            <a:prstGeom prst="rect">
              <a:avLst/>
            </a:prstGeom>
            <a:solidFill>
              <a:srgbClr val="4f81bd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 rot="4680000">
              <a:off x="8219160" y="158760"/>
              <a:ext cx="304920" cy="703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2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3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4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9F51-AF3E-41CD-A1B4-E1C81573F7CC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9144000" cy="13906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7"/>
          <p:cNvGrpSpPr/>
          <p:nvPr/>
        </p:nvGrpSpPr>
        <p:grpSpPr>
          <a:xfrm>
            <a:off x="0" y="1380960"/>
            <a:ext cx="9144000" cy="120960"/>
            <a:chOff x="0" y="1380960"/>
            <a:chExt cx="9144000" cy="120960"/>
          </a:xfrm>
        </p:grpSpPr>
        <p:sp>
          <p:nvSpPr>
            <p:cNvPr id="402" name="Straight Connector 8"/>
            <p:cNvSpPr/>
            <p:nvPr/>
          </p:nvSpPr>
          <p:spPr>
            <a:xfrm>
              <a:off x="0" y="13809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Straight Connector 9"/>
            <p:cNvSpPr/>
            <p:nvPr/>
          </p:nvSpPr>
          <p:spPr>
            <a:xfrm>
              <a:off x="0" y="143676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Straight Connector 10"/>
            <p:cNvSpPr/>
            <p:nvPr/>
          </p:nvSpPr>
          <p:spPr>
            <a:xfrm>
              <a:off x="0" y="1500480"/>
              <a:ext cx="9144000" cy="1440"/>
            </a:xfrm>
            <a:prstGeom prst="line">
              <a:avLst/>
            </a:prstGeom>
            <a:ln w="93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99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spcBef>
                <a:spcPts val="799"/>
              </a:spcBef>
              <a:buClr>
                <a:srgbClr val="8064a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600200" indent="-228600">
              <a:spcBef>
                <a:spcPts val="799"/>
              </a:spcBef>
              <a:buClr>
                <a:srgbClr val="4bacc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2057400" indent="-228600">
              <a:spcBef>
                <a:spcPts val="799"/>
              </a:spcBef>
              <a:buClr>
                <a:srgbClr val="f79646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5"/>
          </p:nvPr>
        </p:nvSpPr>
        <p:spPr>
          <a:xfrm>
            <a:off x="45684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6"/>
          </p:nvPr>
        </p:nvSpPr>
        <p:spPr>
          <a:xfrm>
            <a:off x="3124080" y="6473880"/>
            <a:ext cx="28958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7"/>
          </p:nvPr>
        </p:nvSpPr>
        <p:spPr>
          <a:xfrm>
            <a:off x="6473520" y="647388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7CDE-8D97-45F5-9048-C4F50AB3729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PAd9rT2Waw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Consonant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닿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 and vowels (</a:t>
            </a:r>
            <a:r>
              <a:rPr b="0" lang="ko-KR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홑소리</a:t>
            </a: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4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ㄴ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l/r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ch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k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0 vowel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ㅑ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a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ㅕ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e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ㅗ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ㅛ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o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ㅜ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y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eu)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i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097280" indent="-2192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ㅕ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ㅛ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ㅠ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re iotized ones of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and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ㅜ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respectively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5 double consonant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ㄲ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ㄸ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ㅃ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ㅆ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ㅉ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consonant cluster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ㄳ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ㄵ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ㄶ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ㄺ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ㄻ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ㄼ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ㄽ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ㄾ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ㄿ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ㅀ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ㅄ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11 diphthongs: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ㅐ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ㅒ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ㅔ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ㅖ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ㅘ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ㅙ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ㅚ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ㅝ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ㅞ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ㅟ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ㅢ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Berlin Sans FB"/>
                <a:ea typeface="굴림"/>
              </a:rPr>
              <a:t>Morpho-Syllabic Blocks</a:t>
            </a:r>
            <a:r>
              <a:rPr b="0" lang="en-US" sz="2200" spc="-1" strike="noStrike">
                <a:solidFill>
                  <a:srgbClr val="000000"/>
                </a:solidFill>
                <a:latin typeface="Berlin Sans FB"/>
                <a:ea typeface="굴림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initial: consonants or double consonan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medial: vowels (simple, combined (inlcuding diphthongs), iotized)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The final: consonants, double consonants, clustered consonan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  <a:ea typeface="굴림"/>
              </a:rPr>
              <a:t>HANGUL </a:t>
            </a:r>
            <a:r>
              <a:rPr b="1" lang="en-US" sz="1800" spc="-1" strike="noStrike">
                <a:solidFill>
                  <a:srgbClr val="000000"/>
                </a:solidFill>
                <a:latin typeface="Corbel"/>
                <a:ea typeface="굴림"/>
              </a:rPr>
              <a:t>(Letters)</a:t>
            </a:r>
            <a:endParaRPr b="1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ore Reading Practi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미소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버지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도토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허수아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개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메아리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추위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회의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아빠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토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뻐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서울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불고기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그림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선생님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운동장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몫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흙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젊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여덟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밟다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없다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앉아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읽으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삶아서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rite your name, major, and address in Hangul as being pronounc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Assignment</a:t>
            </a:r>
            <a:endParaRPr b="1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771640" cy="569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4356000" y="2133720"/>
            <a:ext cx="4496040" cy="2295360"/>
          </a:xfrm>
          <a:prstGeom prst="rect">
            <a:avLst/>
          </a:prstGeom>
          <a:ln w="0">
            <a:noFill/>
          </a:ln>
        </p:spPr>
      </p:pic>
      <p:sp>
        <p:nvSpPr>
          <p:cNvPr id="499" name="직사각형 1"/>
          <p:cNvSpPr/>
          <p:nvPr/>
        </p:nvSpPr>
        <p:spPr>
          <a:xfrm>
            <a:off x="4515480" y="40464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en.wikipedia.org/wiki/Han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5048280" cy="5553000"/>
          </a:xfrm>
          <a:prstGeom prst="rect">
            <a:avLst/>
          </a:prstGeom>
          <a:ln w="0">
            <a:noFill/>
          </a:ln>
        </p:spPr>
      </p:pic>
      <p:sp>
        <p:nvSpPr>
          <p:cNvPr id="501" name="Rectangle 1"/>
          <p:cNvSpPr/>
          <p:nvPr/>
        </p:nvSpPr>
        <p:spPr>
          <a:xfrm>
            <a:off x="826920" y="6091200"/>
            <a:ext cx="26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blog.daum.net/hl0824/144969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5189400" y="476280"/>
            <a:ext cx="3810240" cy="5191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"/>
          <p:cNvSpPr/>
          <p:nvPr/>
        </p:nvSpPr>
        <p:spPr>
          <a:xfrm>
            <a:off x="1116000" y="3032280"/>
            <a:ext cx="67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맑은 고딕"/>
                <a:hlinkClick r:id="rId1"/>
              </a:rPr>
              <a:t>http://www.youtube.com/watch?v=1PAd9rT2W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203120" y="17733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Introduction to Hang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Berlin Sans FB"/>
                <a:ea typeface="굴림"/>
              </a:rPr>
              <a:t>Letter Desig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nsonant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Velar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a-eum "molar sounds")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ㄱ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ㅋ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k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Coron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설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seoreum "lingual sounds"):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ㄴ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ㄷ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d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ㅌ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t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ㄹ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l/r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ilabi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순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 suneum "labi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ㅁ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m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ㅂ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b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ㅍ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p),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Sibilant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치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chieum "dental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ㅅ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ㅈ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j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ㅊ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c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orsal consonants (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후음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 hueum "throat sounds"):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ㅇ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-/ng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ㅎ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Berlin Sans FB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25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ll vowels can be represented by the combinations of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•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sun, sky, heaven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earth)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(humanbeings)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349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Eg,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ㅣ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+ •  =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ㅏ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,  • + 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lang="en-US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=</a:t>
            </a:r>
            <a:r>
              <a:rPr b="0" lang="ko-KR" sz="1400" spc="-1" strike="noStrike">
                <a:solidFill>
                  <a:srgbClr val="000000"/>
                </a:solidFill>
                <a:latin typeface="Berlin Sans FB"/>
                <a:ea typeface="굴림"/>
              </a:rPr>
              <a:t>ㅗ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Simple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Bright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ㅏ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Dark;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ㅓ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eo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Neutral </a:t>
            </a: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ㅡ </a:t>
            </a:r>
            <a:r>
              <a:rPr b="0" i="1" lang="en-US" sz="1700" spc="-1" strike="noStrike">
                <a:solidFill>
                  <a:srgbClr val="000000"/>
                </a:solidFill>
                <a:latin typeface="Corbel"/>
                <a:ea typeface="굴림"/>
              </a:rPr>
              <a:t>ŭ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Compoun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ㅐㅔㅘ ㅙ ㅚ ㅝ ㅟ ㅞ 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,,,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Iotized vowel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3" marL="1657440" indent="-343080">
              <a:lnSpc>
                <a:spcPct val="80000"/>
              </a:lnSpc>
              <a:spcBef>
                <a:spcPts val="425"/>
              </a:spcBef>
              <a:buClr>
                <a:srgbClr val="4bacc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ㅑ ㅕ ㅛ ㅠ ㅒ ㅖ</a:t>
            </a:r>
            <a:r>
              <a:rPr b="0" lang="en-US" sz="1700" spc="-1" strike="noStrike">
                <a:solidFill>
                  <a:srgbClr val="000000"/>
                </a:solidFill>
                <a:latin typeface="Berlin Sans FB"/>
                <a:ea typeface="굴림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0504d"/>
              </a:buClr>
              <a:buSzPct val="75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Berlin Sans FB"/>
                <a:ea typeface="굴림"/>
              </a:rPr>
              <a:t>Sorting order (South Korean)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9bbb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  <a:ea typeface="굴림"/>
              </a:rPr>
              <a:t>Initial-medial-final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ㄴ ㄷ ㄸ ㄹ ㅁ ㅂ ㅃ ㅅ ㅆ ㅇ ㅈ ㅉ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ㅏ ㅐ ㅑ ㅒ ㅓ ㅔ ㅕ ㅖ ㅗ ㅘ ㅙ ㅚ ㅛ ㅜ ㅝ ㅞ ㅟ ㅠ ㅡ ㅢ ㅣ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85840">
              <a:lnSpc>
                <a:spcPct val="80000"/>
              </a:lnSpc>
              <a:spcBef>
                <a:spcPts val="499"/>
              </a:spcBef>
              <a:buClr>
                <a:srgbClr val="8064a2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(none) </a:t>
            </a:r>
            <a:r>
              <a:rPr b="0" lang="ko-KR" sz="2000" spc="-1" strike="noStrike">
                <a:solidFill>
                  <a:srgbClr val="000000"/>
                </a:solidFill>
                <a:latin typeface="Berlin Sans FB"/>
                <a:ea typeface="굴림"/>
              </a:rPr>
              <a:t>ㄱ ㄲ ㄳ ㄴ ㄵ ㄶ ㄷ ㄹ ㄺ ㄻ ㄼ ㄽ ㄾ ㄿ ㅀ ㅁ ㅂ ㅄ ㅅ ㅆ ㅇ ㅈ ㅊ ㅋ ㅌ ㅍ ㅎ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4920" y="404280"/>
            <a:ext cx="8110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ter nam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sona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755640" y="162864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니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리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미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i-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ni-e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i-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ri-e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mi-e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b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-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755640" y="3213000"/>
          <a:ext cx="7561440" cy="1463760"/>
        </p:xfrm>
        <a:graphic>
          <a:graphicData uri="http://schemas.openxmlformats.org/drawingml/2006/table">
            <a:tbl>
              <a:tblPr/>
              <a:tblGrid>
                <a:gridCol w="1008000"/>
                <a:gridCol w="882720"/>
                <a:gridCol w="944640"/>
                <a:gridCol w="944640"/>
                <a:gridCol w="946080"/>
                <a:gridCol w="944640"/>
                <a:gridCol w="946080"/>
                <a:gridCol w="94464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치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키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티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피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히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-e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j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ki-e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pi-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i-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755640" y="4797360"/>
          <a:ext cx="7561440" cy="1706760"/>
        </p:xfrm>
        <a:graphic>
          <a:graphicData uri="http://schemas.openxmlformats.org/drawingml/2006/table">
            <a:tbl>
              <a:tblPr/>
              <a:tblGrid>
                <a:gridCol w="1008000"/>
                <a:gridCol w="1257480"/>
                <a:gridCol w="1323720"/>
                <a:gridCol w="1324080"/>
                <a:gridCol w="1324080"/>
                <a:gridCol w="1324080"/>
              </a:tblGrid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88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기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디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비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시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쌍지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giye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dig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bie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si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sang-jie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owe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826920" y="2205000"/>
          <a:ext cx="7705800" cy="1755720"/>
        </p:xfrm>
        <a:graphic>
          <a:graphicData uri="http://schemas.openxmlformats.org/drawingml/2006/table">
            <a:tbl>
              <a:tblPr/>
              <a:tblGrid>
                <a:gridCol w="1224000"/>
                <a:gridCol w="462240"/>
                <a:gridCol w="669600"/>
                <a:gridCol w="668520"/>
                <a:gridCol w="668160"/>
                <a:gridCol w="669960"/>
                <a:gridCol w="668520"/>
                <a:gridCol w="668160"/>
                <a:gridCol w="668520"/>
                <a:gridCol w="669960"/>
                <a:gridCol w="668160"/>
              </a:tblGrid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표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W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Corbel"/>
                          <a:ea typeface="맑은 고딕"/>
                        </a:rPr>
                        <a:t>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ffff"/>
                          </a:solidFill>
                          <a:latin typeface="Corbel"/>
                          <a:ea typeface="맑은 고딕"/>
                        </a:rPr>
                        <a:t>읽기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(R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e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y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6840" y="1600200"/>
            <a:ext cx="81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nunciation Exampl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  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ㅏ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각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ㄱ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ㅛ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교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보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ㅂ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ㅗ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ㅁ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봄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ㅇ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ㅘ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와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2200" indent="-322200">
              <a:spcBef>
                <a:spcPts val="799"/>
              </a:spcBef>
              <a:buClr>
                <a:srgbClr val="c0504d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actice (on p. 13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가갸거겨고교구규그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나냐너녀노뇨누뉴느니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맑은 고딕"/>
              </a:rPr>
              <a:t>And so 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00"/>
              </a:spcBef>
              <a:buClr>
                <a:srgbClr val="9bbb5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SRU</cp:lastModifiedBy>
  <dcterms:modified xsi:type="dcterms:W3CDTF">2012-09-03T19:41:12Z</dcterms:modified>
  <cp:revision>84</cp:revision>
  <dc:subject/>
  <dc:title>KOREAN LANGUAGE</dc:title>
</cp:coreProperties>
</file>